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D7F-CA74-4C82-A12F-5C6397E6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70E-9A56-4B0F-ABEF-F283CF4E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F77-2030-4601-A9DE-40CB55E2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959-F29F-494F-A5E5-DD49853C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F00-B9DE-4459-8613-0E4AF709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FC6-A7EA-4A21-8B06-A8EC825C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87E-7286-4F2D-AF12-9D627D32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EF6-ED22-4310-9C38-6C104C2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3C8-13EA-4899-96A6-F1051878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FDD-69C0-4619-A24B-D4CD4599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205-6797-4AB9-8C9B-81A37FA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4EC-9A19-4C9C-8849-5336B855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AC03-EE70-449E-9371-5A13EAF5C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nalysis of Cromox Image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pril 2014 at H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kel beam;  300 MeV/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t extraction (h=4) every ~2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. of ion / extraction = 5x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 3.5x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im of investigation: Comparison of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HTPDG2 &amp; GHTPD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HTPDF2: Cromox &amp; IDS CMOS; readout via CUP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HTPDG2: DG090 (no clearing electrodes); readout via Python &amp; DevAcc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OT analysis of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ile Calculation from DG2 data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o binning, full camera resolu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6629400" cy="4496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8080" y="5791320"/>
            <a:ext cx="42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Comp_3.5E7_DG2=1903_12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21720" y="2322360"/>
            <a:ext cx="227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G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5 mm wir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F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8 pixel /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638600" cy="3146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9000" y="4572000"/>
            <a:ext cx="371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Comp_SCR=0024_DG2=1903_12_Zoom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76600" y="1371600"/>
            <a:ext cx="4667400" cy="316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16240" y="4572000"/>
            <a:ext cx="388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Comp_SCR=0004_DG2=1843_277_Zoom2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0" t="0" r="8680" b="50005"/>
          <a:stretch/>
        </p:blipFill>
        <p:spPr>
          <a:xfrm>
            <a:off x="4495680" y="4876920"/>
            <a:ext cx="4267440" cy="1738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ile Calculation from DG2 data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o binning, full camera resolu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ile Calculation from SCR data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(see April 2014, prot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ground subtraction via pre-beam picture not suitable, if signal does not decay between two extractions (build-up effect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imate background from regions outside R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s indicate the cut regions for offset and projection (+/- 100 ch. around max.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gh offset correction: Subtract projection of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logic complemen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ProjX(S+N)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hich yields the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two regions ProjX(N)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fter normalisation to integral in region outside signal area. Same procedure for Y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952880" cy="3121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278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2520" y="25146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514600"/>
            <a:ext cx="99072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514600"/>
            <a:ext cx="39621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505320"/>
            <a:ext cx="396252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4600" y="281952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rojX(S+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590920"/>
            <a:ext cx="0" cy="9903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1400" y="2514600"/>
            <a:ext cx="0" cy="9907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2760" y="245124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96252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60" y="3556080"/>
            <a:ext cx="396252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33520" y="1447560"/>
            <a:ext cx="0" cy="990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7960" y="3568680"/>
            <a:ext cx="12600" cy="387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438800" y="3549600"/>
            <a:ext cx="12600" cy="387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432320" y="1460520"/>
            <a:ext cx="0" cy="99072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828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roj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3581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roj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ile Calculation from DG2 dat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out of data via Python &amp; DevAcc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G2 data assigned to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file X = inverted Y data (2nd 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file Y = inverted X data (1st block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oth profiles were shifted by 1 mm to make profiles coinc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bin camera data by factor 4 in both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649680" cy="247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ile Comparis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5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articles/s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3504960" cy="272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3635280" cy="246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3616200" cy="2452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4120" y="129528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3.5E7_Grid=1903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7720" y="3657600"/>
            <a:ext cx="32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3.5E7_SCR=10_Grid=1903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8880" y="3733920"/>
            <a:ext cx="32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3.5E7_SCR=25_Grid=1903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7720" y="1219320"/>
            <a:ext cx="321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3.5E7_SCR=4_Grid=1903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4008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od comparison between both detecto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 profiles showed baseline offset 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ile Comparis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articles/s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294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4840" y="1371600"/>
            <a:ext cx="31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5E6_SCR=6_Grid=1907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644640" cy="2471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414040" y="1295280"/>
            <a:ext cx="318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5E6_SCR=20_Grid=1907_25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181480" y="4378320"/>
            <a:ext cx="3656160" cy="247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0360" y="4114800"/>
            <a:ext cx="318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5E6_SCR=29_Grid=1907_13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480024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ood comparison between both detect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clearing electrodes on SEM grid. Slight distortion of profiles to be exp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this range the SEM grid electronics was a bit „jumpy“. See images on the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significant signal distortion due to electron cross tal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641840" cy="314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2160" y="1523880"/>
            <a:ext cx="4641840" cy="3148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7440" y="4724280"/>
            <a:ext cx="34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SCR=174259_0000_DG2=1903_1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4360" y="4724280"/>
            <a:ext cx="381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SCR=174259_0000_DG2=1903_1_Img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comparison between both detect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ignificant signal distortion due to electron cross tal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: Offsets for X profile electronics (blue data) perfectly zeroed as shown on outer end. Then negative drift due to cross talk ~ 5E-3 (1.5% peak valu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ffsets for the Y profile are consistently below zero, but very small (1.5% peak value)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 Grid Simul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 distribution = DF2 data (core region without camera backg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ple 50.000 primaries from 2D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51480" y="2362320"/>
            <a:ext cx="4592520" cy="3112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595760" cy="311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45880" y="19810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il hits (X and Y pro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9800" y="20574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ctron cross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 cross talk symmetric at high energies (unlike UNILAC energi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mplitude reduced by ~10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ignificant profile distor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arison Experiment/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264200" cy="28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4264200" cy="289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936960"/>
            <a:ext cx="4308480" cy="2921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343400" y="3936960"/>
            <a:ext cx="4308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524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 shows similar negative baseline drift (&lt;5E-3) due to electron cross 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LAC data: Simulated cross talk effect ~ factor 2 smaller than data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Reiter </cp:lastModifiedBy>
  <dcterms:modified xsi:type="dcterms:W3CDTF">2014-06-17T22:59:03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